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0B6-8B9B-43FD-9002-75D7619F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3869-70AB-4072-BF6C-9C50B101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277-EE7A-4D6D-A04F-EE1F694A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C059-9C79-402E-9E90-234C8196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E2E2-AAE4-42F1-9258-F3DF853E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56E1-1E87-43F3-A586-644BA831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105A-F391-48F1-8EA4-56AC7E69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6B04-26FC-440A-A126-465A2009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B8E4-ED8C-4F7F-B3C9-6F086573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E3C6-E632-45F8-839C-04E7DEA5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EDC9-6DB6-4794-845D-0362DEB6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808-6758-489F-B64A-9654514E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EF63-5B70-45E6-832D-5121CD44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6349-025C-464D-A12C-A796CD35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7D63-CC76-4A5C-9114-44B0E83C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2EA7-257C-421B-9338-504F7C52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659B-2285-4282-BF79-CFFE0241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55177-4F8C-4345-A24F-71895B6B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E57E0-2F48-462F-B56D-483A362F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A1C58-81EE-4D13-A58F-5BD23317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24A96-E8BF-4C08-B1B7-ED9DB7CB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D9B1F-F13E-40D0-B788-B58BDE35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C17-0537-44B5-831A-5674FCF9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A651B-5D2D-4862-9FE6-05DB2A01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034A9-25B2-457A-8A44-A6AF9D08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CC412-E623-4713-B1BE-A4AEE730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0FFAC-257E-4114-AAF0-8AC5BCDE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4FD89-0E6F-4F87-BCFC-93BED2BD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9D57F-7A94-40B3-9C71-02CD01D8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08027-DDEC-47E4-B21D-D9B0E7FE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2C0-7C2C-4AFB-AB28-1656E97A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AA4-C3C6-4308-B403-A28FE107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CA7-F9A0-4A44-8E46-8F6C4956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22C-9033-4358-828E-6EFAAC99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F02-4BAE-4B3C-BAE4-6582097D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C50-938A-48F5-816F-61F98BE2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99AA-654B-436C-9D7C-AA1209FDD40C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7795-7471-40C6-A6C9-438F65D80627}" type="slidenum">
              <a:rPr b="0" lang="ru-RU" sz="1200" spc="-1" strike="noStrike">
                <a:solidFill>
                  <a:srgbClr val="cce1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EE91-D9E5-4E50-903F-4937BF42A3B0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08000" y="1125360"/>
            <a:ext cx="8856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Результаты                                пробного экзамена по математике в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11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 классе, проведённого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30 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марта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52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 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года (профильный уровень)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547640" y="54936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о общеобразовательным учрежд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26920" y="1557360"/>
          <a:ext cx="7486920" cy="4183200"/>
        </p:xfrm>
        <a:graphic>
          <a:graphicData uri="http://schemas.openxmlformats.org/drawingml/2006/table">
            <a:tbl>
              <a:tblPr/>
              <a:tblGrid>
                <a:gridCol w="632160"/>
                <a:gridCol w="3584520"/>
                <a:gridCol w="1092240"/>
                <a:gridCol w="1085760"/>
                <a:gridCol w="1092240"/>
              </a:tblGrid>
              <a:tr h="83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468360" y="765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втор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о общеобразовательным учрежд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1916280"/>
          <a:ext cx="8589960" cy="3387600"/>
        </p:xfrm>
        <a:graphic>
          <a:graphicData uri="http://schemas.openxmlformats.org/drawingml/2006/table">
            <a:tbl>
              <a:tblPr/>
              <a:tblGrid>
                <a:gridCol w="630360"/>
                <a:gridCol w="2635200"/>
                <a:gridCol w="716040"/>
                <a:gridCol w="701640"/>
                <a:gridCol w="357120"/>
                <a:gridCol w="360360"/>
                <a:gridCol w="698400"/>
                <a:gridCol w="442800"/>
                <a:gridCol w="443160"/>
                <a:gridCol w="717480"/>
                <a:gridCol w="442800"/>
                <a:gridCol w="444600"/>
              </a:tblGrid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810"/>
          <p:cNvSpPr/>
          <p:nvPr/>
        </p:nvSpPr>
        <p:spPr>
          <a:xfrm>
            <a:off x="900000" y="658656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19"/>
          <p:cNvSpPr/>
          <p:nvPr/>
        </p:nvSpPr>
        <p:spPr>
          <a:xfrm>
            <a:off x="684360" y="5589720"/>
            <a:ext cx="48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20"/>
          <p:cNvSpPr/>
          <p:nvPr/>
        </p:nvSpPr>
        <p:spPr>
          <a:xfrm>
            <a:off x="971640" y="566100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не приступ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 – выполнили 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53880" y="1298520"/>
          <a:ext cx="8697960" cy="4919760"/>
        </p:xfrm>
        <a:graphic>
          <a:graphicData uri="http://schemas.openxmlformats.org/drawingml/2006/table">
            <a:tbl>
              <a:tblPr/>
              <a:tblGrid>
                <a:gridCol w="471600"/>
                <a:gridCol w="2033640"/>
                <a:gridCol w="604800"/>
                <a:gridCol w="573120"/>
                <a:gridCol w="334800"/>
                <a:gridCol w="574920"/>
                <a:gridCol w="334800"/>
                <a:gridCol w="335160"/>
                <a:gridCol w="568080"/>
                <a:gridCol w="370080"/>
                <a:gridCol w="573120"/>
                <a:gridCol w="573120"/>
                <a:gridCol w="574560"/>
                <a:gridCol w="441360"/>
                <a:gridCol w="33480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525"/>
          <p:cNvSpPr/>
          <p:nvPr/>
        </p:nvSpPr>
        <p:spPr>
          <a:xfrm>
            <a:off x="360360" y="476280"/>
            <a:ext cx="84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втор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о общеобразовательным учрежд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79280" y="1052640"/>
            <a:ext cx="878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В пробном экзамене                   по математике приняли участие </a:t>
            </a: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3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 человек                      из </a:t>
            </a: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6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 общеобразовательных учреждени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755640" y="907920"/>
            <a:ext cx="775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Количество баллов, набранных учащимися, распределилось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2276640"/>
          <a:ext cx="8229600" cy="4103640"/>
        </p:xfrm>
        <a:graphic>
          <a:graphicData uri="http://schemas.openxmlformats.org/drawingml/2006/table">
            <a:tbl>
              <a:tblPr/>
              <a:tblGrid>
                <a:gridCol w="4336920"/>
                <a:gridCol w="3892680"/>
              </a:tblGrid>
              <a:tr h="158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0 до 5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 ученик</a:t>
                      </a:r>
                      <a:r>
                        <a:rPr b="1" lang="tt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 до 12 балл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учеников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)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ше 12 балл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ученика (31%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99"/>
          <p:cNvSpPr/>
          <p:nvPr/>
        </p:nvSpPr>
        <p:spPr>
          <a:xfrm>
            <a:off x="684360" y="692280"/>
            <a:ext cx="77403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экзамена по математ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по общеобразовательным учреждения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2133720"/>
          <a:ext cx="8713800" cy="2722320"/>
        </p:xfrm>
        <a:graphic>
          <a:graphicData uri="http://schemas.openxmlformats.org/drawingml/2006/table">
            <a:tbl>
              <a:tblPr/>
              <a:tblGrid>
                <a:gridCol w="649080"/>
                <a:gridCol w="5176800"/>
                <a:gridCol w="288792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образовательного учре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ервичны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оргуз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гимназ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ктябрь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ура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Маку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556"/>
          <p:cNvSpPr/>
          <p:nvPr/>
        </p:nvSpPr>
        <p:spPr>
          <a:xfrm>
            <a:off x="2195640" y="580536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редний первичный бал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о району – 9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-1985040" y="692280"/>
            <a:ext cx="130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Количество баллов, набранных учащимися в разрезе ш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8000" y="1557360"/>
          <a:ext cx="8785080" cy="3754440"/>
        </p:xfrm>
        <a:graphic>
          <a:graphicData uri="http://schemas.openxmlformats.org/drawingml/2006/table">
            <a:tbl>
              <a:tblPr/>
              <a:tblGrid>
                <a:gridCol w="2733480"/>
                <a:gridCol w="1247760"/>
                <a:gridCol w="454320"/>
                <a:gridCol w="422280"/>
                <a:gridCol w="368280"/>
                <a:gridCol w="409320"/>
                <a:gridCol w="336600"/>
                <a:gridCol w="414360"/>
                <a:gridCol w="308160"/>
                <a:gridCol w="433440"/>
                <a:gridCol w="371160"/>
                <a:gridCol w="414360"/>
                <a:gridCol w="436680"/>
                <a:gridCol w="434880"/>
              </a:tblGrid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ого по райо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468360" y="1628640"/>
          <a:ext cx="8423280" cy="4310280"/>
        </p:xfrm>
        <a:graphic>
          <a:graphicData uri="http://schemas.openxmlformats.org/drawingml/2006/table">
            <a:tbl>
              <a:tblPr/>
              <a:tblGrid>
                <a:gridCol w="353880"/>
                <a:gridCol w="3321000"/>
                <a:gridCol w="1589400"/>
                <a:gridCol w="1422360"/>
                <a:gridCol w="1736640"/>
              </a:tblGrid>
              <a:tr h="99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еодол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не преодолели пор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Верхнеуслон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Верхнеуслонская гимназия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Макул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Коргузин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Курал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ктябрь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Rectangle 305"/>
          <p:cNvSpPr/>
          <p:nvPr/>
        </p:nvSpPr>
        <p:spPr>
          <a:xfrm>
            <a:off x="-1352160" y="765000"/>
            <a:ext cx="1191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Monotype Corsiva"/>
              </a:rPr>
              <a:t>Статистика в разрезе общеобразовательных учре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79280" y="907920"/>
          <a:ext cx="8713800" cy="5819760"/>
        </p:xfrm>
        <a:graphic>
          <a:graphicData uri="http://schemas.openxmlformats.org/drawingml/2006/table">
            <a:tbl>
              <a:tblPr/>
              <a:tblGrid>
                <a:gridCol w="970200"/>
                <a:gridCol w="5167080"/>
                <a:gridCol w="722520"/>
                <a:gridCol w="1131840"/>
                <a:gridCol w="722160"/>
              </a:tblGrid>
              <a:tr h="476280"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проверяем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решать уравнения и неравен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строить и исследовать простейшие математически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геометрическими фигурами, координатами и векто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вычисления и пре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геометрическими фигурами, координатами и векто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функ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использовать приобретенные знания и умения в практической деятельности и повседневной жизни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строить и исследовать простейшие математически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93"/>
          <p:cNvSpPr/>
          <p:nvPr/>
        </p:nvSpPr>
        <p:spPr>
          <a:xfrm>
            <a:off x="-33480" y="259560"/>
            <a:ext cx="92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Сравнительная информация по зад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-1409400" y="907920"/>
            <a:ext cx="120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08000" y="1700280"/>
          <a:ext cx="8493120" cy="2754360"/>
        </p:xfrm>
        <a:graphic>
          <a:graphicData uri="http://schemas.openxmlformats.org/drawingml/2006/table">
            <a:tbl>
              <a:tblPr/>
              <a:tblGrid>
                <a:gridCol w="426960"/>
                <a:gridCol w="2452680"/>
                <a:gridCol w="596880"/>
                <a:gridCol w="736560"/>
                <a:gridCol w="736560"/>
                <a:gridCol w="735120"/>
                <a:gridCol w="736560"/>
                <a:gridCol w="736560"/>
                <a:gridCol w="596880"/>
                <a:gridCol w="738360"/>
              </a:tblGrid>
              <a:tr h="4878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айо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468360" y="1844640"/>
          <a:ext cx="8466120" cy="3989520"/>
        </p:xfrm>
        <a:graphic>
          <a:graphicData uri="http://schemas.openxmlformats.org/drawingml/2006/table">
            <a:tbl>
              <a:tblPr/>
              <a:tblGrid>
                <a:gridCol w="936720"/>
                <a:gridCol w="4997160"/>
                <a:gridCol w="698760"/>
                <a:gridCol w="1135080"/>
                <a:gridCol w="698400"/>
              </a:tblGrid>
              <a:tr h="1178280"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проверяемые треб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функ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использовать приобретенные знания и умения в практической деятельности и повседневной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функ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285"/>
          <p:cNvSpPr/>
          <p:nvPr/>
        </p:nvSpPr>
        <p:spPr>
          <a:xfrm>
            <a:off x="138600" y="836640"/>
            <a:ext cx="92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Сравнительная информация по зад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4:21:33Z</dcterms:created>
  <dc:creator>Елена</dc:creator>
  <dc:description/>
  <dc:language>en-US</dc:language>
  <cp:lastModifiedBy>Нина Хайруллина</cp:lastModifiedBy>
  <dcterms:modified xsi:type="dcterms:W3CDTF">2022-04-13T13:48:00Z</dcterms:modified>
  <cp:revision>176</cp:revision>
  <dc:subject/>
  <dc:title>Этапы компьютерного моделирования</dc:title>
</cp:coreProperties>
</file>